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4EF0-C42E-42F6-907C-F856EA3E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9C8-20B9-4F6E-8F9E-9864BF1B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45F9-6C47-4F8D-B26E-2CED43ED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6530-E88F-4114-9983-BE385368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2997-3BC4-49C7-A228-3CAF2A74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0B7D-12EE-4D79-A7DC-5C273E22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6CC4-4A32-4462-AE78-60373D01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69CA-AEA0-4617-AD6A-410D24EC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0723-DA93-4C1A-A305-413C1AD6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B173-4B74-4310-A29F-9514D9A8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699C-4D68-41FA-ADFB-0C414AC8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B0B-E3CF-43FD-80A7-7D032CCE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2643-4A48-4B8A-99B3-7999B6E0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1C36-09CC-4EDD-B331-9F65FAA6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0433-2503-4AE9-B631-EF8C986D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8370-EC8F-4BBC-A4E0-D6C87D7C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5AAD-7F80-49EF-88F9-367157F2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C5EF-FCBB-46C1-B8A8-F54222A0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2C8C-3DF7-4024-AF1A-FFB21324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54E8-FDE3-469F-B593-A733DC17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212B-2441-4F64-A32F-04C0DA9E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65C-7076-4351-8B13-D25077B9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FE2C-833A-48A9-AF84-1FD19F92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7739-150D-433B-AA61-F5EA26E5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42E3-9903-4F22-B54F-2592BE89C6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FC3E-64C7-4D60-B919-4A28EFDD11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НЕВЕРБАЛН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КОМУНИКАЦИЈ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Обр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здигнута сре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бринут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лакш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пуштена сре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Љутња, бес, фрустр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исока концетра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Рук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ст преко усана и држање за у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главном значи да не говори ист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ржање руку за корен носа или додиривање н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лушалац не верујем ономе што ч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ржање руку у облику пирами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амопоуздање и вера у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игурне и супериорне осо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Рук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екрштене р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товорен став, резервисаност и оп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ржање руку на леђ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упериорност, поуздање, мо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крштање или преклапање р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бринутост и стр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алчеви окренути на д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иско самопоузд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Ног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едење са раширеним ног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090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стицање домин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090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ћне и богате осо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едење са прекрштеним нога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090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лежањ преко колена – сигурност, доминантност, тврдогла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090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лежањ преко глежња – неизвесност и с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090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лено преко колена – жене: заводнички став, заштитнички став, предострожност, склониш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арактеристике невербалне комунициј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1676520"/>
          <a:ext cx="8610480" cy="509112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актеристике комуникац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бал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ербал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ено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дна димензија (ре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ше димензија (став, глас ..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реме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инуира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сноћ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тко је погрешна интерпрет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к је двосмисл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н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иј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мер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јчешће намер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то намер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Невербална комун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Функције невербалне комуникациј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опуњавање гово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Замењивање вербалне комуникације – неки гест замени ре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аглашавање (подупирање говора) – коришћење гестова да би се нешто нагласи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упростављање говору – особа не признаје своју емотивну реакцију (“Нисам љут.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Контакт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Функциј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контакта очи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Тражење информ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казивање пажње и интересо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жење и контрола интер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оминација, претња и утица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Тражење повратне информ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ткривање став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Контакт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контакта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ктивно избега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искрено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сигурно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асивно избега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пошт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пристој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заинтересовано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Контакт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контакта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ејак (дуг) контакт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зраз супери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етња (претећи ста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еља да се увр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глед нав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соба размишља, визуелни т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више улево – присећање, навише удесно – смишљ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игнал досаде и тражења нечег интересантниј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Контакт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контакта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глед нани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же бити знак субмис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же да показује крив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ниже улево – унутрашњи дија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ниже удесно – посвећеност сопственим емоц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 многим културама значи исказивање пошт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Контакт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контакта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глед у стра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кретање ка извору привлачења пажње или прет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сећање на неки зв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атерални погледи (“шарање погледом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крети очима лево-десно могу указивати на прева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Шарање погледом се јавља и када се нешто саопштава “у поверењу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Обр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пуштене обр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гу указивати на превару (у комбинацији са спуштеном глав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гу указивати да се ради о доминантној ос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гу указивати на незадовољ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дигнуте обр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гу указивати на привлачење паж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гу указивати на отвореност, па и субмисив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9T06:38:41Z</dcterms:modified>
  <cp:revision>188</cp:revision>
  <dc:subject/>
  <dc:title>Soft and Hard Skills Development: A Current Situation in Serbian Companies</dc:title>
</cp:coreProperties>
</file>